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1FAB-1BB8-4DE3-AF69-090EBE104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AEF9-2687-41F4-98D2-3ACEC8A8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CD14-7D50-4391-8975-C71E15BF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32FE-FDFC-4A97-85A8-036BD35A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24C1-8FA1-4E16-9CA9-E035954C4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6ED6-4A5E-4102-A959-A1548B96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9779-9B5E-4DD7-BB64-AB7C7043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EAD2-B88A-45EE-BB53-D8D4E314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047C-A1D5-46F3-9F28-C21CA90E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305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40F3-70DF-4B56-A9C5-CFED3E3E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D9A6-9BEC-46DC-8848-B0FC9F69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39F1-0481-445E-9482-A4055165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FBFB-45B9-4196-8D54-CC284CE8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4B86-43B1-486D-9462-0CD2476A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94FF-9DD8-4051-B092-AF6B197F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441E-7B17-4157-B09D-2805CB8E9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592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428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592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428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BF40-A5B6-4CBA-A261-E5AC2EFC3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DD03-FFFB-4CA6-AD81-C538EC46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B52F-6397-499E-B837-2AC4A94B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2DA3-56DB-4FBD-A828-0000CD45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305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4AB0-8D4F-4C42-87CA-E6611E32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19C2-3EDF-4FDD-8A34-21E19FC1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30EA-AA30-46CD-B826-F30EDBC3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E11B-EC08-443B-BFEB-FF839E81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477120"/>
            <a:ext cx="1295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359E-9F43-43CB-A0D9-DA9A4224CE35}" type="slidenum">
              <a:rPr b="0" lang="en-AU" sz="10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4407-E5B6-488C-AE52-0033D2D16966}" type="slidenum">
              <a:rPr b="0" lang="en-AU" sz="10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817227"/>
                </a:solidFill>
                <a:latin typeface="Arial Black"/>
              </a:rPr>
              <a:t>Cells and Systems</a:t>
            </a:r>
            <a:endParaRPr b="0" lang="en-US" sz="44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708000" y="3657240"/>
            <a:ext cx="4902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817227"/>
                </a:solidFill>
                <a:latin typeface="Arial Black"/>
              </a:rPr>
              <a:t>Student Knowledge and Skills</a:t>
            </a:r>
            <a:endParaRPr b="0" lang="en-US" sz="36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0592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993300"/>
                </a:solidFill>
                <a:latin typeface="Arial"/>
              </a:rPr>
              <a:t>WHAT YOU WILL LEARN BY THE END OF THIS UNIT: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List the main parts of a microscope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How a microscope work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The differences between plant and animal cell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The components of cell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rial"/>
              </a:rPr>
              <a:t>The jobs performed by different plant and animal cell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Arial"/>
              </a:rPr>
              <a:t>The jobs performed by different tissues in animals and plants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How to make a wet mount and stain the mount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Make an accurate drawing of a cell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Plant Cells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87" name="Content Placeholder 2"/>
          <p:cNvSpPr/>
          <p:nvPr/>
        </p:nvSpPr>
        <p:spPr>
          <a:xfrm>
            <a:off x="395280" y="1825560"/>
            <a:ext cx="83059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  <a:ea typeface="ＭＳ Ｐゴシック"/>
              </a:rPr>
              <a:t>Stick the handout in your book, and then summarise each by f</a:t>
            </a:r>
            <a:r>
              <a:rPr b="0" lang="en-AU" sz="2400" spc="-1" strike="noStrike">
                <a:solidFill>
                  <a:srgbClr val="993300"/>
                </a:solidFill>
                <a:latin typeface="Arial"/>
                <a:ea typeface="ＭＳ Ｐゴシック"/>
              </a:rPr>
              <a:t>illing in the following table: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39640" y="2997360"/>
          <a:ext cx="7993080" cy="2646360"/>
        </p:xfrm>
        <a:graphic>
          <a:graphicData uri="http://schemas.openxmlformats.org/drawingml/2006/table">
            <a:tbl>
              <a:tblPr/>
              <a:tblGrid>
                <a:gridCol w="2160720"/>
                <a:gridCol w="5832360"/>
              </a:tblGrid>
              <a:tr h="377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5c1f00"/>
                          </a:solidFill>
                          <a:latin typeface="Arial"/>
                        </a:rPr>
                        <a:t>Cell Type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5c1f00"/>
                          </a:solidFill>
                          <a:latin typeface="Arial"/>
                        </a:rPr>
                        <a:t>Details (eg size, function, location etc)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5c1f00"/>
                          </a:solidFill>
                          <a:latin typeface="Arial"/>
                        </a:rPr>
                        <a:t>Guard Cell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5c1f00"/>
                          </a:solidFill>
                          <a:latin typeface="Arial"/>
                        </a:rPr>
                        <a:t>Xylem Cell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5c1f00"/>
                          </a:solidFill>
                          <a:latin typeface="Arial"/>
                        </a:rPr>
                        <a:t>Root Hair Cell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5c1f00"/>
                          </a:solidFill>
                          <a:latin typeface="Arial"/>
                        </a:rPr>
                        <a:t>Leaf Cells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5c1f00"/>
                          </a:solidFill>
                          <a:latin typeface="Arial"/>
                        </a:rPr>
                        <a:t>Epidermal Cell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5c1f00"/>
                          </a:solidFill>
                          <a:latin typeface="Arial"/>
                        </a:rPr>
                        <a:t>Phloem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817227"/>
                </a:solidFill>
                <a:latin typeface="Arial Black"/>
              </a:rPr>
              <a:t>Plant Transport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3300"/>
                </a:solidFill>
                <a:latin typeface="Arial"/>
              </a:rPr>
              <a:t>Phloem: the cells together form thin tubules that transport sugar up and down the plan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3300"/>
                </a:solidFill>
                <a:latin typeface="Arial"/>
              </a:rPr>
              <a:t>Xylem: water and minerals in a plant are transported in tubules called xylem vessels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xylem is made up of dead cells and bundled with the phloem help make a plant rigid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817227"/>
                </a:solidFill>
                <a:latin typeface="Arial Black"/>
              </a:rPr>
              <a:t>Stoma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3300"/>
                </a:solidFill>
                <a:latin typeface="Arial"/>
              </a:rPr>
              <a:t>Guard cells in the leaves surround each stoma (opening) in the leaf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3300"/>
                </a:solidFill>
                <a:latin typeface="Arial"/>
              </a:rPr>
              <a:t>Water, oxygen and carbon dioxide pass in and out of these stoma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3300"/>
                </a:solidFill>
                <a:latin typeface="Arial"/>
              </a:rPr>
              <a:t>The stoma open and close to control the loss of water etc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904760"/>
            <a:ext cx="8305920" cy="4267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872316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06:10:25Z</dcterms:created>
  <dc:creator>Administrator</dc:creator>
  <dc:description/>
  <dc:language>en-US</dc:language>
  <cp:lastModifiedBy>Peter Kos</cp:lastModifiedBy>
  <dcterms:modified xsi:type="dcterms:W3CDTF">2012-05-31T07:07:29Z</dcterms:modified>
  <cp:revision>66</cp:revision>
  <dc:subject/>
  <dc:title>Cells and Syst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9391033</vt:lpwstr>
  </property>
</Properties>
</file>